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458-FB5D-4E82-8B8C-5056F380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460-C45E-4F70-9C83-4A24A261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DDA-2E61-413E-BAE5-7DCEE965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63B-F21A-451E-BFE9-8740686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467-CF40-48D6-A952-2914309D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FEF-7ED5-47ED-86A0-828AA0C9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2F3-B9F5-4280-9DD6-B4878EC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936-55EB-4A63-87DF-0D19956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E6A-70B0-4974-9939-93A7E05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7EB-2C13-4874-80CF-A242C0E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BE-7975-4926-8D33-6502448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C27-16DF-4984-8080-5926151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2B5-E062-47F0-B512-3019E34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47B-8F05-4637-A89D-FEC9260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3DD-34EB-4E0F-B78B-6F428DA3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71360" y="4761000"/>
            <a:ext cx="51768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41320" y="5553000"/>
            <a:ext cx="5302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52280" y="5541840"/>
            <a:ext cx="506520" cy="712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39680" y="5911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71600" y="4767120"/>
            <a:ext cx="476280" cy="798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7840"/>
            <a:ext cx="469800" cy="93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9600"/>
            <a:ext cx="57312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980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8920"/>
            <a:ext cx="646200" cy="932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22800"/>
            <a:ext cx="645840" cy="932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787320" y="4746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16480" y="60181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eth</cp:lastModifiedBy>
  <dcterms:modified xsi:type="dcterms:W3CDTF">2012-12-01T16:41:52Z</dcterms:modified>
  <cp:revision>104</cp:revision>
  <dc:subject/>
  <dc:title>Profile</dc:title>
</cp:coreProperties>
</file>